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13A-5B6B-490F-93F3-0FE9A5FE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5EE-C2F8-4F49-A64C-68DE9E0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0AB-7EED-444F-8F4A-D703B474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53D-59FE-4119-BF98-A47CF99D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563D-6AC1-4167-A4D3-8D9BB60B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28B-42A0-4612-9BEA-C9D0568A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51C-5C05-41F2-B652-B3E7468A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D3F-473C-4860-9DDB-911C21C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403E-1025-42AB-9863-A30FFC2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55AD-D70F-46E6-B560-9F93F0E6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E83-3DCF-4043-A1BA-64CD321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44B-D85F-4B27-A8A9-3EA52BA1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2565-7EDE-4A95-AB3C-E15D372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A351-BAF4-45B6-A44E-1F7C5F10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EAB6-D1EF-4DB4-8D9A-9A09158B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2CB4-B06A-4A59-A440-D0419120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946-25C7-41C6-8A4C-173F5B38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C7A-F1E1-4649-BA08-AE0F07E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7D0-A3D2-4FA5-8BC2-51FCF756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43F-E0F2-42B9-B156-6A84DCB7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345-74CD-458A-BA1D-11CC98C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23B-9F0D-4EA3-A5EC-5113F51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1C4-AF6C-4120-ABBD-F04B5CE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9CD-AFCB-4A45-BA30-0297583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19CF-39B2-4DFA-9A2A-EE5983D840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31BC-C66C-4DCC-A3F2-E2BA431B66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KINE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TERAPIJ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Tanja Lukov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Fiziološki efekti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10-20 puta veći lokalni prot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5-25% MV srca     75% M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iseoničko osiromašenje krvi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većanje srčane frekvencije i UV (2-3 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većanje pulsa i 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7-8 l    30-40 l/min vazdu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staltik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krecij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u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 kise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tabolizam: vode, elektrolita, termoregulacija, acidoza, sagorevanje masti i šećer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4495680" y="2438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220968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Kинезитерапијa LM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словљава и промене на рефлексним релејним везама, како на нивоу спиналн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тако и на вишем ниво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Evaluacija funkcija L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renje dužine ekstremit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renje obima ekstremit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renje obima pokreta u zglobov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anuelno testiranje mišićne sn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DŽ t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Terapeutsk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u sistematizovani, svrsishodni pokreti koji treba da doprinesu očuvanju, uspostavljanju ili zameni oštećene pokretljiv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sivne vež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tivne vež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ktivno-potpomognu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ktiv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ktivne sa otperećen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unkow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Regan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NF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bath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jta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мето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жбe у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суспензиј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leinVogelbach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c Kenz</a:t>
            </a: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9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ljevi</a:t>
            </a:r>
            <a:r>
              <a:rPr b="0" lang="sr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erapeutskih</a:t>
            </a:r>
            <a:r>
              <a:rPr b="0" lang="sr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ežb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ržan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i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im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ret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glob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g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dinaci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r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zin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r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ln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držljiv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omatiza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dici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Pasivn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incipi: - stabilizacija proksimalnih zglob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idržavanje distalnih svih zglob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do b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lagani, glatki pokreti, bez istezan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fekti:  - održavanje fiziološke dužine mišić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održavanje obima pokreta u zglobovim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aferentacija segmenta stimulacijom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propriocep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stimulacija trofike i refl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iprema za aktivne vež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traindikacije: - sveže povr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mlitave oduzet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zapaljenski reumatiz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2.1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Aktivno potpomognut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moć terapeu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spenz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vo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moć zdravim ekstremitet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incipi                                                   Efek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bjasniti bolesniku šta da radi             - jačanje mišić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užiti minimalnu pomoć                    - preduslo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zbegavati upotrebu dr. mišića               koordina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ratak odmor posle svakog pokr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2.2.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Aktivn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rincip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detaljno pokazati sve faze vežb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dozirati teži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acijent ne sme biti s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Efek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boljšanje koordina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većanje brz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utomatiz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opšta izdržljiv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2.3.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Aktivne vežbe sa opterećenj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tereće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oizvoljno: ekspander, manuel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zi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: tegovi, din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tar, pul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pa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r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-10 kontrakcija max opterećenja 6 m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rm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ineziterapija - definicij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ineziterapija (gr. kinein-kretati se) je oblast fizikalne terapije koja se bavi primenom vežbi radi očuvanja, uspostavljanja, razvijanja i zamene funkcije lokomotornog siste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gens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kre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Doziranje kineziter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četni položa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pterećen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zina pokr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mplituda pokr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oj ponavljan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užina polu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epen zamora pre kineziterap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epen pripremljenosti drugim agens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Indikacij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Traumatolo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sle povreda mekih  tkiva, preloma i komplik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rtoped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deformacije kičmenog stuba (skolioze, kifoze),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eformaci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stopala, poremećaji okoštavanja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sle osteotomija, artoplastika, artrodeza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urolo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eriferne i centralne oduzet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miopatije, mioziti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Indikacij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umatolo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zapaljenski, vanzglobni, degenerativni u r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Ginekologija i akušerstvo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sle operacija, prevencija komplik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iprema za bezbolan porođaj, posle porođa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Hirur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e i posle operativnih zahvata u neurohirurgiji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skularnoj, grudnoj, opštoj hirurgiji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ontraindikacij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okal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utno zapalje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krvare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bolo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TB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psolutnih kontraindikacija nema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pš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febril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visok 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insuficijencija srca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ubrega, jetre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teža respiratorna oboljen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Kinezisal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3" name="Picture 4" descr="IMG_0073"/>
          <p:cNvPicPr/>
          <p:nvPr/>
        </p:nvPicPr>
        <p:blipFill>
          <a:blip r:embed="rId1"/>
          <a:stretch/>
        </p:blipFill>
        <p:spPr>
          <a:xfrm>
            <a:off x="1550880" y="1600200"/>
            <a:ext cx="6983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Picture 019"/>
          <p:cNvPicPr/>
          <p:nvPr/>
        </p:nvPicPr>
        <p:blipFill>
          <a:blip r:embed="rId1"/>
          <a:stretch/>
        </p:blipFill>
        <p:spPr>
          <a:xfrm>
            <a:off x="533520" y="457200"/>
            <a:ext cx="705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7" name="Picture 4" descr="slika8V"/>
          <p:cNvPicPr/>
          <p:nvPr/>
        </p:nvPicPr>
        <p:blipFill>
          <a:blip r:embed="rId1"/>
          <a:stretch/>
        </p:blipFill>
        <p:spPr>
          <a:xfrm>
            <a:off x="380880" y="22860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buka zaštitnim položaji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9" name="Picture 5" descr="pozv9"/>
          <p:cNvPicPr/>
          <p:nvPr/>
        </p:nvPicPr>
        <p:blipFill>
          <a:blip r:embed="rId1"/>
          <a:stretch/>
        </p:blipFill>
        <p:spPr>
          <a:xfrm>
            <a:off x="533520" y="22860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pozv10"/>
          <p:cNvPicPr/>
          <p:nvPr/>
        </p:nvPicPr>
        <p:blipFill>
          <a:blip r:embed="rId2"/>
          <a:stretch/>
        </p:blipFill>
        <p:spPr>
          <a:xfrm>
            <a:off x="5300640" y="1523880"/>
            <a:ext cx="3538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313"/>
          <p:cNvPicPr/>
          <p:nvPr/>
        </p:nvPicPr>
        <p:blipFill>
          <a:blip r:embed="rId1"/>
          <a:stretch/>
        </p:blipFill>
        <p:spPr>
          <a:xfrm>
            <a:off x="762120" y="228600"/>
            <a:ext cx="2295360" cy="14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314"/>
          <p:cNvPicPr/>
          <p:nvPr/>
        </p:nvPicPr>
        <p:blipFill>
          <a:blip r:embed="rId2"/>
          <a:stretch/>
        </p:blipFill>
        <p:spPr>
          <a:xfrm>
            <a:off x="3581280" y="304920"/>
            <a:ext cx="2283120" cy="1500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315"/>
          <p:cNvPicPr/>
          <p:nvPr/>
        </p:nvPicPr>
        <p:blipFill>
          <a:blip r:embed="rId3"/>
          <a:stretch/>
        </p:blipFill>
        <p:spPr>
          <a:xfrm>
            <a:off x="6172200" y="304920"/>
            <a:ext cx="2233440" cy="1500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316"/>
          <p:cNvPicPr/>
          <p:nvPr/>
        </p:nvPicPr>
        <p:blipFill>
          <a:blip r:embed="rId4"/>
          <a:stretch/>
        </p:blipFill>
        <p:spPr>
          <a:xfrm>
            <a:off x="1066680" y="1962000"/>
            <a:ext cx="2295720" cy="1535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317"/>
          <p:cNvPicPr/>
          <p:nvPr/>
        </p:nvPicPr>
        <p:blipFill>
          <a:blip r:embed="rId5"/>
          <a:stretch/>
        </p:blipFill>
        <p:spPr>
          <a:xfrm>
            <a:off x="3657600" y="23623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318"/>
          <p:cNvPicPr/>
          <p:nvPr/>
        </p:nvPicPr>
        <p:blipFill>
          <a:blip r:embed="rId6"/>
          <a:stretch/>
        </p:blipFill>
        <p:spPr>
          <a:xfrm>
            <a:off x="6172200" y="23623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319"/>
          <p:cNvPicPr/>
          <p:nvPr/>
        </p:nvPicPr>
        <p:blipFill>
          <a:blip r:embed="rId7"/>
          <a:stretch/>
        </p:blipFill>
        <p:spPr>
          <a:xfrm>
            <a:off x="1523880" y="434340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320"/>
          <p:cNvPicPr/>
          <p:nvPr/>
        </p:nvPicPr>
        <p:blipFill>
          <a:blip r:embed="rId8"/>
          <a:stretch/>
        </p:blipFill>
        <p:spPr>
          <a:xfrm>
            <a:off x="3886200" y="4572000"/>
            <a:ext cx="130500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" descr="321"/>
          <p:cNvPicPr/>
          <p:nvPr/>
        </p:nvPicPr>
        <p:blipFill>
          <a:blip r:embed="rId9"/>
          <a:stretch/>
        </p:blipFill>
        <p:spPr>
          <a:xfrm>
            <a:off x="6858000" y="4495680"/>
            <a:ext cx="1351080" cy="17528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0"/>
          <p:cNvSpPr/>
          <p:nvPr/>
        </p:nvSpPr>
        <p:spPr>
          <a:xfrm>
            <a:off x="762120" y="1752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7. Trbušna pozicija Brunkow-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3429000" y="1752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8.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Četvoronož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6095880" y="17524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Četvoronož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838080" y="3733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0.Četvoronož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3276720" y="38862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1.Boč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6019920" y="3809880"/>
            <a:ext cx="238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2.Boč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685800" y="61722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3.Koleni položaj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3124080" y="627696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4.Koleni položaj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6019920" y="627696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5.Stojeći položaj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Kineziterapija za tortikoli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6836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žbe istezanja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,u ritmu povijanja deteta,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0" y="20574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oкр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oм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лo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њу з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с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ст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а медикаментозна средства не могу заменити покре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оt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 значи живот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zicioniranje leve hemipleg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39640" y="1771560"/>
            <a:ext cx="4038840" cy="347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648320" y="1771560"/>
            <a:ext cx="40384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amoaktiviranje  kod hemiplegičar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Picture 3" descr="HWScan00236444"/>
          <p:cNvPicPr/>
          <p:nvPr/>
        </p:nvPicPr>
        <p:blipFill>
          <a:blip r:embed="rId1"/>
          <a:stretch/>
        </p:blipFill>
        <p:spPr>
          <a:xfrm>
            <a:off x="324000" y="2133720"/>
            <a:ext cx="7372080" cy="4267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HWScan002347"/>
          <p:cNvPicPr/>
          <p:nvPr/>
        </p:nvPicPr>
        <p:blipFill>
          <a:blip r:embed="rId2"/>
          <a:stretch/>
        </p:blipFill>
        <p:spPr>
          <a:xfrm>
            <a:off x="5148360" y="4535640"/>
            <a:ext cx="3024000" cy="45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amoaktiviranje i pasivne vežbe kod hemiplegičar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1" name="Picture 4" descr="HWScan00233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HWScan002347"/>
          <p:cNvPicPr/>
          <p:nvPr/>
        </p:nvPicPr>
        <p:blipFill>
          <a:blip r:embed="rId2"/>
          <a:stretch/>
        </p:blipFill>
        <p:spPr>
          <a:xfrm>
            <a:off x="4419720" y="3048120"/>
            <a:ext cx="4495680" cy="3666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ineziterapija - istorij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odokus, Hipokrat, Galen: dokazi o korišćenju vežbi u leče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XIX v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Ling osnova kineziterap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857. Ežen D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. rata centralno mesto u okviru nove grane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Физиолошке основе кинезитерапиј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 кинезитерапије је активни покр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и физички напор пра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 је одговарајућим физиолошким променама на респираторном кардиоваскуларно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рвном систем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urofiziološke</a:t>
            </a:r>
            <a:r>
              <a:rPr b="0" lang="sr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snove</a:t>
            </a:r>
            <a:r>
              <a:rPr b="0" lang="sr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n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akcij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zultat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že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n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voim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ij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n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os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nih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ćelij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ždan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or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kortikalnih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cij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pevaju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ramidn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strapiramidn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o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ičmen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ždin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k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fer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uromišićn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pojnic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kn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Neurofiziološke osno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torna jedinic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sva mišićna vlakna inervisana od strane jedne motorne ćelije prednjih rogova kičmene moždin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je anatomska nego funkcionalna jedin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α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motorni neuro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kstafuzalna vlakna-pokret ili stabiliz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γ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motorni neuro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afuzalna vlakna-posturalnu pripremu pokret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ereotip pokre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utomatizovani, lako izvodljivi bez većeg utroška energije zahvaljujući “programiranju” ekstrapiramidnog sist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z inaktivitet se gas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ировање и мишићна снаг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стетички импулси се  не формирају јер нема активности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суство аферентације и фасилитације ЦНС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шење енграма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убитак координације и аутоматизма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рофи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ишића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гипсане имобилизације мишићи   пропадају  1,5 до 3,0% дневно или 10 до 20% недељно. Да би ојачали ослабљене мишиће потребно је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пло дуже време од настанка хипотрофије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ineziološke osnov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lu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brzine (lakat, podizanje na prs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snage (zglobovi GE i 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ravnoteže (atlanto-okcipitalni, kukov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šićna kontrakcija je stanje razdražl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sti mišića koja teži njegovom skraćenju, bez obzira da li postiž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vrste: izometrijska i izotonič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dela mišića prema funkci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agon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antagon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sinerg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fiksato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HERI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OV ZAKON RECIPROČNE INERV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8:50:12Z</dcterms:created>
  <dc:creator>Bill Gates</dc:creator>
  <dc:description/>
  <dc:language>en-US</dc:language>
  <cp:lastModifiedBy>Info</cp:lastModifiedBy>
  <dcterms:modified xsi:type="dcterms:W3CDTF">2018-12-10T07:50:35Z</dcterms:modified>
  <cp:revision>19</cp:revision>
  <dc:subject/>
  <dc:title>KINEZITERAPIJA</dc:title>
</cp:coreProperties>
</file>